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95F27-E1F9-4F14-B1E1-220F6BA47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8C564-4083-48DB-8480-12F8482E5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BBB9D-786D-4DBC-B66E-2350F5799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49C7D-C230-4608-BE62-4BAF4EE60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A09F6-2237-4550-A240-B73AC113B8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37A8E-7751-44B4-B3A8-C50F06A09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3234D-A5BC-40F4-B307-DC5946986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4CEEB-3D5A-476C-AF48-A7CED4CFB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E6B3E-3065-4B42-AF6E-895FD1293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74662-5F8A-4F55-B1B8-A828F9EF6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A6854-2BDA-42AA-B84E-E4BB72EB6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E39CE-9014-4E34-ABF2-338EF9B68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15865-8EE0-49D5-955D-FC59F5C8A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B36B4-E313-4372-B971-EC3B4D1DD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D295E-24CA-4EF9-A9A8-903812ED1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004AB-7D57-40AD-9CF3-671513BEA6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FDDF51-48D6-4DEA-9A5B-4901C6133C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DB4E13-C1F3-45F5-BFB2-E4DE5BD038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D6451E-434A-460A-A92D-C9A0179869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65F1F3-8379-4D18-98F6-5DC586C889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C11D75-6FF9-49B9-BF90-BF255FA783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B56C60-697A-429F-90A2-C9211AFCAC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33818-8FB7-4133-90E3-7A8296C6F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9E56DE-D230-4FA9-91D0-08F8DC8F8F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64F8E2-CE4B-4B72-ABB4-4D6CEFA6D8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265896-0F08-43E7-A736-12FA8F6921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FFC131-AE76-48EF-BFDE-5D53C9B087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025170-0B2E-4407-BBBA-17084F0F89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BF7E58-764F-4AC8-BB0A-84E2BD63FD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97B9E4-DCE9-446D-9BF0-A2BED6C531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AECA8-19DF-45C7-8183-5F0F174B9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AD4DE-78F3-426C-9E8B-142AEFAEB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4E3C7-AB54-4FED-BA39-D07D5AE6E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C935A-EBE2-4A3B-AE0C-D17F8CB4C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C6837-B8EB-4956-8A0F-DA3B4FFCD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701F5-1F91-457D-9070-04556B43E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7F3E3-F2AB-4305-8108-9AB73F1F56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54465-42BB-4903-9045-196C454DE7E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0E0B6-D700-4B56-A7C6-5B2BB63FEA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Cooper Black"/>
              </a:rPr>
              <a:t>PS 385 </a:t>
            </a:r>
            <a:br>
              <a:rPr sz="4400"/>
            </a:br>
            <a:r>
              <a:rPr b="0" lang="en-US" sz="4400" spc="-1" strike="noStrike">
                <a:solidFill>
                  <a:srgbClr val="330033"/>
                </a:solidFill>
                <a:latin typeface="Britannic Bold"/>
              </a:rPr>
              <a:t>The Performance School</a:t>
            </a:r>
            <a:br>
              <a:rPr sz="4400"/>
            </a:br>
            <a:endParaRPr b="0" lang="en-US" sz="4400" spc="-1" strike="noStrike">
              <a:solidFill>
                <a:srgbClr val="330033"/>
              </a:solidFill>
              <a:latin typeface="Times New Roman"/>
            </a:endParaRPr>
          </a:p>
        </p:txBody>
      </p:sp>
      <p:sp>
        <p:nvSpPr>
          <p:cNvPr id="139"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oper Black"/>
              </a:rPr>
              <a:t>School Policy Manual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oper Black"/>
              </a:rPr>
              <a:t>2009 -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0033"/>
                </a:solidFill>
                <a:latin typeface="Cooper Black"/>
              </a:rPr>
              <a:t>Absence Policy</a:t>
            </a:r>
            <a:endParaRPr b="0" lang="en-US" sz="4000" spc="-1" strike="noStrike">
              <a:solidFill>
                <a:srgbClr val="330033"/>
              </a:solidFill>
              <a:latin typeface="Times New Roman"/>
            </a:endParaRPr>
          </a:p>
        </p:txBody>
      </p:sp>
      <p:sp>
        <p:nvSpPr>
          <p:cNvPr id="15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ooper Black"/>
              </a:rPr>
              <a:t>Reporting Absences or Lateness</a:t>
            </a:r>
            <a:endParaRPr b="0" lang="en-US" sz="27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event you are sick and cannot report to work, you are to call Sub Central by 6:00 am, so that we can make arrangements to cover your program. Money to pay for each substitute has been set aside in case you make an absence reques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a courtesy, also call the School Secretary so that we may make arrangements to provide coverage for your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ontractual Obligations</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be reminded that according to the UFT contract, </a:t>
            </a:r>
            <a:r>
              <a:rPr b="0" i="1" lang="en-US" sz="2400" spc="-1" strike="noStrike">
                <a:solidFill>
                  <a:srgbClr val="000000"/>
                </a:solidFill>
                <a:latin typeface="Comic Sans MS"/>
              </a:rPr>
              <a:t>"...teachers shall be granted absence refunds for illness, on application, without a statement from a physician, for a total of no more than 10 days in any school year."</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of those days may be used for personal business, two of which may be used for the care of a family member. However, if you expect to be absent for three consecutive days, you must bring in a medical note.</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personal business, you must notify the principal, in writing, one (1) week in advanc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School Policy</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ease keep in mind, that although each teacher has the ability to request 10 absence refunds in one year, it is school policy to consider 5 absences or more in one semester as excessive and can lead to disciplinary action.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auses for Disciplinary Action</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uthorized absences constitute grounds for disciplinary action which may include dismissal for that cause alon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ally, while actual absence which has been excused in accordance with regulations does not, of and by itself, constitute grounds for disciplinary action, absences which are so numerous as to limit the effectiveness of service may lead to disciplinary action for incompetent service or unfitness to perform obligations properly to the serv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Causes continued…</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act that excuse or leave was applied for and granted properly does not preclude disciplinary action which may range from an adverse rating to the institution of proceedings for dismissal or termination of service. Such disciplinary action shall not be precluded even when the cause of absence is a medical or physical conditio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now Day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ancellor will announce the citywide decision to close or delay the opening of schools (including the cancellation of after-school activities during citywide emergency conditions or major storm days) after consultation with the Mayor's Office of Emergency Management, the Weather Bureau, the City Sanitation Department, and the City Transit Authority. The citywide decision will be made as early as possible prior to 6:00 a.m. on the affected da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Snow Days Continued…</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school staff is responsible and obligated to report to work as early as possible, but not later than the designated starting time on a day with an authorized two hour delayed openi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gular attendance reporting standards apply (absences, lateness) </a:t>
            </a:r>
            <a:r>
              <a:rPr b="1" lang="en-US" sz="2000" spc="-1" strike="noStrike">
                <a:solidFill>
                  <a:srgbClr val="000000"/>
                </a:solidFill>
                <a:latin typeface="Comic Sans MS"/>
              </a:rPr>
              <a:t>based on the later starting time</a:t>
            </a:r>
            <a:r>
              <a:rPr b="0" lang="en-US" sz="2000" spc="-1" strike="noStrike">
                <a:solidFill>
                  <a:srgbClr val="000000"/>
                </a:solidFill>
                <a:latin typeface="Comic Sans MS"/>
              </a:rPr>
              <a:t>. These regular standards include the principal's discretion in approving or denying extraordinary Transportation Delay Forms for staff (OP201) contingent upon, as applicable, </a:t>
            </a:r>
            <a:r>
              <a:rPr b="1" i="1" lang="en-US" sz="2000" spc="-1" strike="noStrike">
                <a:solidFill>
                  <a:srgbClr val="000000"/>
                </a:solidFill>
                <a:latin typeface="Comic Sans MS"/>
              </a:rPr>
              <a:t>confirmation of delays</a:t>
            </a:r>
            <a:r>
              <a:rPr b="0" lang="en-US" sz="2000" spc="-1" strike="noStrike">
                <a:solidFill>
                  <a:srgbClr val="000000"/>
                </a:solidFill>
                <a:latin typeface="Comic Sans MS"/>
              </a:rPr>
              <a:t> by the Transit Authority, Department of Transportation or other agencies involved with the specific cause of delay (again, based on the later starting tim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Jury Duty</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you are notified for jury duty, you will be expected to bring the "Notice of Jury duty" to school several days in advance of your scheduled date of servic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chool will provide you with a letter to request for you to be excused from jury duty. In some cases the letter will help to support your request for a postponement in other cases it may not support your requ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r>
              <a:rPr b="0" i="1" lang="en-US" sz="3600" spc="-1" strike="noStrike">
                <a:solidFill>
                  <a:srgbClr val="330033"/>
                </a:solidFill>
                <a:latin typeface="Cooper Black"/>
              </a:rPr>
              <a:t> </a:t>
            </a:r>
            <a:endParaRPr b="0" lang="en-US" sz="36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Medical and Dental Appointments</a:t>
            </a:r>
            <a:endParaRPr b="0" lang="en-US" sz="24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ooper Black"/>
              </a:rPr>
              <a:t>	</a:t>
            </a:r>
            <a:endParaRPr b="0" lang="en-US" sz="23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ery effort must be made to schedule medical and dental appointments during after school hours. Most offices remain open to provide after work care except in some cases, for specialized care.  In this case it will require for you to take a sick day from your absence reserve fun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 </a:t>
            </a:r>
            <a:endParaRPr b="0" lang="en-US" sz="4200" spc="-1" strike="noStrike">
              <a:solidFill>
                <a:srgbClr val="330033"/>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Early Departures</a:t>
            </a:r>
            <a:endParaRPr b="0" lang="en-US" sz="20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achers are not to leave the school building during their preparation periods except on official business with the approval of the principal whereupon they are to clock out and clock back in upon return.  Teachers may leave the building during their lunch periods onl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it is necessary for a staff member to leave the building before their scheduled departure time, the staff member must personally notify a supervisor of the need for an early departu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ther than fractional absence which has been approved at the discretion of the principal as non-attendance (e.g., transportation delay), personal business (e.g., the illness of a teacher’s child), or the personal illness of the employee, all fractional absences occasioned by late arrival or early departure must be recorded for possible payroll deduc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incipal’s Message</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ar Teach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s School Policy manual is an essential information document that must be adhered to at all times. It contains the basic procedural responsibilities that need to be followed in order to maintain an effective instructional program within a safe and orderly environmen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lease keep this manual in a safe place and review the contents frequently. Attach any related addenda and memos as they are distributed.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Thank Yo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Lourdes Estrell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xecutive Principal</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oper Black"/>
              </a:rPr>
              <a:t>Early Departures continued…</a:t>
            </a: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total of fractional absences charged to the C.A.R. is six hours or more, one day must be deducted from the C.A.R. for each six hours of fractional absence recorded during the same school ye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total (or the remainder after deduction of each such six hours) is less than six hours but more than 3 hours 20 minutes at the close of the school year or upon cessation of service, one day must be deducted from the C.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8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oper Black"/>
              </a:rPr>
              <a:t>Early Departures continued…</a:t>
            </a:r>
            <a:endParaRPr b="0" lang="en-US" sz="32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the sick leave balance in the C.A.R. is not sufficient to cover the time, fractional absences resulting from personal illness must be reported for deduction from pay of the amount which corresponds to the actual time lost.  Fractional absence at the start of the day which is excused on account of the illness of the employee is reported and compensated for either by a charge to the sick leave balance or by a payroll deduc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y member of the teaching or non-teaching staff who ceases to perform duty before the scheduled time of departure at the end of the day must inform the principal or equivalent organizational unit head as soon as the need becomes apparent and before leaving the school premises</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Absence Policy </a:t>
            </a:r>
            <a:br>
              <a:rPr sz="3800"/>
            </a:br>
            <a:endParaRPr b="0" lang="en-US" sz="3800" spc="-1" strike="noStrike">
              <a:solidFill>
                <a:srgbClr val="330033"/>
              </a:solidFill>
              <a:latin typeface="Times New Roman"/>
            </a:endParaRPr>
          </a:p>
        </p:txBody>
      </p:sp>
      <p:sp>
        <p:nvSpPr>
          <p:cNvPr id="18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Emergencie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remember that </a:t>
            </a:r>
            <a:r>
              <a:rPr b="0" i="1" lang="en-US" sz="2400" spc="-1" strike="noStrike" u="sng">
                <a:solidFill>
                  <a:srgbClr val="000000"/>
                </a:solidFill>
                <a:uFillTx/>
                <a:latin typeface="Comic Sans MS"/>
              </a:rPr>
              <a:t>students must be supervised at all times by a licensed teacher.</a:t>
            </a:r>
            <a:r>
              <a:rPr b="0" lang="en-US" sz="2400" spc="-1" strike="noStrike">
                <a:solidFill>
                  <a:srgbClr val="000000"/>
                </a:solidFill>
                <a:latin typeface="Comic Sans MS"/>
              </a:rPr>
              <a:t> If an emergency should arise and you must leave your class, another licensed teacher must be called to take over the supervision of your studen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must adhere to this procedure to ensure the safety and well-being of all students.  Please make sure that any emergency calls you receive are directed to the school secretaries so that they may quickly act according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Leaving for the Da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dismissing your students at the assigned locations, teachers are to report to the main office to move their time cards from the IN column to the OUT column. </a:t>
            </a:r>
            <a:r>
              <a:rPr b="1" i="1" lang="en-US" sz="2400" spc="-1" strike="noStrike">
                <a:solidFill>
                  <a:srgbClr val="000000"/>
                </a:solidFill>
                <a:latin typeface="Comic Sans MS"/>
              </a:rPr>
              <a:t>Each staff member is responsible for moving their own card.</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y deviation from this policy may necessitate punching in and out via the time clock after discussion with the princip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ooper Black"/>
              </a:rPr>
              <a:t>Open Door Policy</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ch staff member has access to me for any type of communication. You may find me around the building or you may visit me in my office. If the matter is to take time, request my secretary to schedule an appointment to see me after school. I am readily available to clarify any mat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chool Circular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chool circular will be the method of formal communication between my office and you. You are required to respond to all school circulars by the due date. This is an official communication.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lease make sure you have access to an e-mail account with the Department of Education. Once your account is established you may log on at home or in school. Be sure to log on every day to check for school circulars and any other pertinent information. A hard copy will be made available in the main office.</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ommon Planning Tim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ur school has been designed to support our vision of becoming a strong community of learners.  Each grade has been assigned a common planning time every day.  This will give you an opportunity to communicate, plan, look at student data with other teachers on your grad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s common planning time may also be used for professional development as well as to clarify both administrative and instructional standards and expec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Faculty Conference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nce monthly there will be a Faculty Conference.  At the faculty conference administrative matters pertaining to the school will be discussed.  The faculty conference, lasting 40 minutes at the end of the day, will be held on the first Monday of every month. Attendance is mandatory.</a:t>
            </a: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Grade Conference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rade conferences will be scheduled once monthly during your common planning time. However, in order to address the needs of new teachers and new programs, professional development activities may take place during this time.  Teachers will be notified of conference dates and times. Conference may be conducted by the Principal and/or the Grade Supervisor. Attendance is mandatory.</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ooper Black"/>
              </a:rPr>
              <a:t>School Notices/Parent Notic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achers are required to give out at the end of the day any school notices sent by my office, the Region or by the Chancellor's Office. Teachers will be required to collect tear-off sections, when required, and given to your grade supervisor.</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Please not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parent communications that you would like to send to your students’ parents, should be reviewed by, and have your grade supervisor’s approv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CHOOL MISSION STATEMENT</a:t>
            </a:r>
            <a:endParaRPr b="0" lang="en-US" sz="3200" spc="-1" strike="noStrike">
              <a:solidFill>
                <a:srgbClr val="330033"/>
              </a:solidFill>
              <a:latin typeface="Times New Roman"/>
            </a:endParaRPr>
          </a:p>
        </p:txBody>
      </p:sp>
      <p:sp>
        <p:nvSpPr>
          <p:cNvPr id="143" name=""/>
          <p:cNvSpPr/>
          <p:nvPr/>
        </p:nvSpPr>
        <p:spPr>
          <a:xfrm>
            <a:off x="914400" y="1676520"/>
            <a:ext cx="7391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mic Sans MS"/>
              </a:rPr>
              <a:t>Our mission is to engage staff, students, families, and community partners to make a difference in the life of each child in our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learning community. We will provide all students with an exceptional education to develop their mind and nurture their spirit; empowering them to pursue their dreams and change the world.</a:t>
            </a:r>
            <a:endParaRPr b="0" lang="en-US" sz="2800" spc="-1" strike="noStrike">
              <a:solidFill>
                <a:srgbClr val="000000"/>
              </a:solidFill>
              <a:latin typeface="Arial"/>
            </a:endParaRPr>
          </a:p>
        </p:txBody>
      </p:sp>
      <p:pic>
        <p:nvPicPr>
          <p:cNvPr id="145" name="" descr=""/>
          <p:cNvPicPr/>
          <p:nvPr/>
        </p:nvPicPr>
        <p:blipFill>
          <a:blip r:embed="rId1"/>
          <a:srcRect l="0" t="0" r="-2636" b="-11556"/>
          <a:stretch/>
        </p:blipFill>
        <p:spPr>
          <a:xfrm>
            <a:off x="5791320" y="5257800"/>
            <a:ext cx="1828800" cy="1230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dministrative Matter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Register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achers are responsible to maintain accurate records for the students in their class. Children who are seated in your class on the first day, but are not listed on your register, should not be sent to the general office. Instead notify the Pupil Accounting Secretary, in writing. If the matter is unresolved by the second day, contact your grade supervisor.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 official changes will be made by the office through ATS. No child is to be added or removed without an admission or discharge slip from the Pupil Accounting Secretary. All students must appear on the ATS roster. See the Pupil Accounting Secretary if you have any discrepanc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ooper Black"/>
              </a:rPr>
              <a:t>Student Attendance</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r attendance is monitored by the Chancellor’s office. Chancellor's Regulation requires that students maintain a minimum 93% attendance rate.  It is an important element of the school’s Progress Report.  Therefore all classroom teachers are responsible for taking attendance every day.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Each day you will receive scan sheets for attendance. These scan sheets must be submitted to the main office by 10:00 am every day. If a child comes in after 10:00 am, please inform the attendance office immediately so that corrections can be made.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tendance will be scanned and any child marked absent is to receive a phone call at home informing parents of the child's absence. Scan sheets must have correct information. It is our legal responsibility to ensure accuracy. Students are expected to attend school every day.</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 teachers must inform students as to the importance of attending school every day. If a child is absent for three days, all teachers must follow-up by contacting the parent by phone. Any parent contact should be recorded on the back of your attendance roll book card. If you cannot make contact, please inform the main office for continued follow-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oper Black"/>
              </a:rPr>
              <a:t>Marking Book</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teachers, including: clusters, ESL, Resource Room are required to maintain a marking book for their students. This book is to be used to record quizzes, unit test scores, class work, homework, reports, parent contacts, etc.  All students on register are to be listed in your marking book. Marking books will be used to support your grades on the report cards. They will be reviewed by your grade supervis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oper Black"/>
              </a:rPr>
              <a:t>Marking Period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re are three formal marking periods per school year. A marking period calendar and memorandum will be issued prior to the distribution of report cards. All teachers are required to meet all deadlines established in these calendars. All report cards will be reviewed by supervisors prior to distribution. In instances where two teachers are responsible for providing instruction in the same subject, the grade arrived at on the report card MUST be reflective of the ongoing articulation and collaboration process between the two teachers involved. In addition, all specialists will be required to attach an Academic Intervention Service Progress Report to Par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oper Black"/>
              </a:rPr>
              <a:t>Report Card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ur school utilizes report cards as designed by the Chancellor’s Office. The school report cards have been aligned to the NYS performance standards. The ratings are as follows: </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4 </a:t>
            </a:r>
            <a:r>
              <a:rPr b="1" lang="en-US" sz="2000" spc="-1" strike="noStrike">
                <a:solidFill>
                  <a:srgbClr val="000000"/>
                </a:solidFill>
                <a:latin typeface="Comic Sans MS"/>
              </a:rPr>
              <a:t>	</a:t>
            </a:r>
            <a:r>
              <a:rPr b="1" lang="en-US" sz="2000" spc="-1" strike="noStrike">
                <a:solidFill>
                  <a:srgbClr val="000000"/>
                </a:solidFill>
                <a:latin typeface="Comic Sans MS"/>
              </a:rPr>
              <a:t>meet the standard with distinction</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 </a:t>
            </a:r>
            <a:r>
              <a:rPr b="1" lang="en-US" sz="2000" spc="-1" strike="noStrike">
                <a:solidFill>
                  <a:srgbClr val="000000"/>
                </a:solidFill>
                <a:latin typeface="Comic Sans MS"/>
              </a:rPr>
              <a:t>	</a:t>
            </a:r>
            <a:r>
              <a:rPr b="1" lang="en-US" sz="2000" spc="-1" strike="noStrike">
                <a:solidFill>
                  <a:srgbClr val="000000"/>
                </a:solidFill>
                <a:latin typeface="Comic Sans MS"/>
              </a:rPr>
              <a:t>meet the standard for the grad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 </a:t>
            </a:r>
            <a:r>
              <a:rPr b="1" lang="en-US" sz="2000" spc="-1" strike="noStrike">
                <a:solidFill>
                  <a:srgbClr val="000000"/>
                </a:solidFill>
                <a:latin typeface="Comic Sans MS"/>
              </a:rPr>
              <a:t>	</a:t>
            </a:r>
            <a:r>
              <a:rPr b="1" lang="en-US" sz="2000" spc="-1" strike="noStrike">
                <a:solidFill>
                  <a:srgbClr val="000000"/>
                </a:solidFill>
                <a:latin typeface="Comic Sans MS"/>
              </a:rPr>
              <a:t>partially meeting the standard for the grad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a:t>
            </a:r>
            <a:r>
              <a:rPr b="1" lang="en-US" sz="2000" spc="-1" strike="noStrike">
                <a:solidFill>
                  <a:srgbClr val="000000"/>
                </a:solidFill>
                <a:latin typeface="Comic Sans MS"/>
              </a:rPr>
              <a:t>	</a:t>
            </a:r>
            <a:r>
              <a:rPr b="1" lang="en-US" sz="2000" spc="-1" strike="noStrike">
                <a:solidFill>
                  <a:srgbClr val="000000"/>
                </a:solidFill>
                <a:latin typeface="Comic Sans MS"/>
              </a:rPr>
              <a:t>Far below the standard for the grade</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grading policy for any teacher made test is as follows:</a:t>
            </a:r>
            <a:endParaRPr b="0" lang="en-US" sz="20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r>
              <a:rPr b="1" lang="en-US" sz="1800" spc="-1" strike="noStrike">
                <a:solidFill>
                  <a:srgbClr val="000000"/>
                </a:solidFill>
                <a:latin typeface="Comic Sans MS"/>
              </a:rPr>
              <a:t>	</a:t>
            </a:r>
            <a:r>
              <a:rPr b="1" lang="en-US" sz="1800" spc="-1" strike="noStrike">
                <a:solidFill>
                  <a:srgbClr val="000000"/>
                </a:solidFill>
                <a:latin typeface="Comic Sans MS"/>
              </a:rPr>
              <a:t>excellent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90 - 100)</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r>
              <a:rPr b="1" lang="en-US" sz="1800" spc="-1" strike="noStrike">
                <a:solidFill>
                  <a:srgbClr val="000000"/>
                </a:solidFill>
                <a:latin typeface="Comic Sans MS"/>
              </a:rPr>
              <a:t>	</a:t>
            </a:r>
            <a:r>
              <a:rPr b="1" lang="en-US" sz="1800" spc="-1" strike="noStrike">
                <a:solidFill>
                  <a:srgbClr val="000000"/>
                </a:solidFill>
                <a:latin typeface="Comic Sans MS"/>
              </a:rPr>
              <a:t>satisfactory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85 - 90)</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a:t>
            </a:r>
            <a:r>
              <a:rPr b="1" lang="en-US" sz="1800" spc="-1" strike="noStrike">
                <a:solidFill>
                  <a:srgbClr val="000000"/>
                </a:solidFill>
                <a:latin typeface="Comic Sans MS"/>
              </a:rPr>
              <a:t>	</a:t>
            </a:r>
            <a:r>
              <a:rPr b="1" lang="en-US" sz="1800" spc="-1" strike="noStrike">
                <a:solidFill>
                  <a:srgbClr val="000000"/>
                </a:solidFill>
                <a:latin typeface="Comic Sans MS"/>
              </a:rPr>
              <a:t>approaching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75 - 84)</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a:t>
            </a:r>
            <a:r>
              <a:rPr b="1" lang="en-US" sz="1800" spc="-1" strike="noStrike">
                <a:solidFill>
                  <a:srgbClr val="000000"/>
                </a:solidFill>
                <a:latin typeface="Comic Sans MS"/>
              </a:rPr>
              <a:t>	</a:t>
            </a:r>
            <a:r>
              <a:rPr b="1" lang="en-US" sz="1800" spc="-1" strike="noStrike">
                <a:solidFill>
                  <a:srgbClr val="000000"/>
                </a:solidFill>
                <a:latin typeface="Comic Sans MS"/>
              </a:rPr>
              <a:t>unsatisfactory</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below 7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Recording Reading and Mathematics Scor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udents in grades 3, 4, and 5 should be given a satisfactory rating if he or she received a three (3) or an excellent rating if a four (4)on the ELA. Students who received a (1) should be given and unsatisfactory rating and students who received a 2 should be given a partially meeting the standard rating</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udents in all grades may receive a satisfactory or an excellent only if they are reading on or above grade level as verified by classroom work/ performance, guided reading level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grades K-3 performance is determined by TC sc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pecialists Grade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pecialists will also be responsible for transmitting grades by the due date as posted in the grade reporting school circular. Please do not add any grade notations which have not been selected for the report card. Use only the grading key noted abov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Specialists grade is an important component of the child’s total educational experience at PS 385. In addition, all Specialists will be required to submit a separate Academic Intervention Service Progress Report to be distributed to par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Teacher Commen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ents should be tailored for each child's needs. They should be positive in tone, specific and helpful to the parent. Circle in red all U ratings, all absences of 5 or more in one marking period, and all lateness of 3 or more.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ents should reinforce and not contradict the rating given in the earlier section of the report card.</a:t>
            </a: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Equipment Care and Inventory</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teacher is responsible for all equipment assigned to the room. This includes computers, software, peripherals and any audio-visual equipment. You must sign an inventory card for the use of equipmen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ase ensure that the students are taught to handle the delicate computers with care. They must be dusted on a regular basis and covered at the end of the da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you need audiovisual equipment, please see your grade supervisor. All AV equipment, cameras, VCRs, and TVs must be locked up by the end of the da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extensive equipment inventory will be conducted every year.</a:t>
            </a:r>
            <a:br>
              <a:rPr sz="2000"/>
            </a:br>
            <a:r>
              <a:rPr b="1" i="1" lang="en-US" sz="2000" spc="-1" strike="noStrike" u="sng">
                <a:solidFill>
                  <a:srgbClr val="000000"/>
                </a:solidFill>
                <a:uFillTx/>
                <a:latin typeface="Comic Sans MS"/>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Duplication</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duplicating machine will be available to all staff members in the staff resource room located in room 215. All materials duplicated must have prior approval from the grade supervisor. There are no exceptions to this polic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copy machine is not to be used for copies relating to personal business. You must bring your own paper to use this machine.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utilize the school’s duplicating services you must submit your request three-days in advance so that it may be returned to you, on time, for your lesson.  The school provides paper for all request made through school services.  Please keep this in mind as you plan your lessons for the we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School Organization</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is year our school will be divided into two academies: The Learning to Read Academy which is composed of grades Pre-kindergarten to 2, and The Reading to Learn Academy is composed of grades 3 to 5.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Learning to Read Academy will focus on teaching students to learn to read using a developmental approach.  The students will focus on early reading strategies such as phonemic awareness, systematic and explicit phonics instruction, fluency instruction, vocabulary development, and building the foundation for text comprehens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Reading to Learn Academy will then focus on providing the students experiences which allow the students to apply their reading skills and to critically think about the information they acquire.  Students will utilize strategies to delve deeper into their learning experiences. The reading strategies they have learned will support their in-depth study of content areas through debates, the arts, investigations and community servi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Repairs/Request for Custodia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case of an emergency inform a supervisor immediately. In other cases, repair request forms are available from the payroll secretary. </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pleted forms are to be submitted to the principal for approval which will then be forwarded to the custodi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oper Black"/>
              </a:rPr>
              <a:t>Fire Drills/Shelter Drill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Your room must have a fire drill sign. All classes have been assigned an exit route. Read the route carefully then walk it first before practicing it with your class. As you practice, please remind students that there is no talking during a fire drill, they must all kept heir eyes on you, they must walk quickly but carefully, they must exit the building as quickly as possible. The class moves in a double line. Also know an alternate exit route in case your route is blocked. The fire signal is a continuous sound which will inform you to prepare and exit. Bells may ring unannounc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Teachers must take their red emergency folders on all fire drills in case you have to account for each child.  This is the case in the event of an actual emergency. Specialists and support teachers will have a fire drill assignment. In the event of a fire, Specialists with a class in their charge will escort the students out of the building via the established route.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hen a warning signal is given, the classroom teacher who is on prep will return to the room and escort the class down upon hearing the signal. Be prepared to use alternate routes in a fire drill.</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pon returning from a fire drill, DO NOT SEND students back to pull out programs. The pull-out teacher will pick them up from your room. ALL SCHOOL PERSONNEL MUST LEAVE THE BUILDING DURING A FIRE DRILL.  Fire Drills will be conducted at least 12 times a year; 8 of which will be conducted by December. Shelter drills will be conducted at least three times a year. Carefully review the fire and shelter drill proced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Visitor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desk is placed in front of the main entrance to the building and situated so that all persons entering are in full view of our security personnel. All visitors must stop at this desk for identification and interview.  All visitors will sign the visitor's Log Book and shall be requested to provide one item of valid identification. The visitor will be directed to the main office. The main office will issue the appropriate visitor's pass and direct the visitor to the proper location.</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f you want to see a parent, schedule parents to come during your preparation time or in the morning or in the afternoon if you so choose. Otherwise, they will not be allowed to interrupt instructional time.</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Medication</a:t>
            </a:r>
            <a:r>
              <a:rPr b="0" lang="en-US" sz="2800" spc="-1" strike="noStrike">
                <a:solidFill>
                  <a:srgbClr val="000000"/>
                </a:solidFill>
                <a:latin typeface="Cooper Black"/>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achers are never permitted to administer medication to a student. If a student is in need of medication, a 504 Form must be completed by the parent and the student's physician.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ter the 504 paperwork has been processed, our school nurse will administer medication as needed. Please report any emergencies to your grade supervi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7" name="PlaceHolder 2"/>
          <p:cNvSpPr>
            <a:spLocks noGrp="1"/>
          </p:cNvSpPr>
          <p:nvPr>
            <p:ph/>
          </p:nvPr>
        </p:nvSpPr>
        <p:spPr>
          <a:xfrm>
            <a:off x="838080" y="1447920"/>
            <a:ext cx="7925040" cy="5029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Sick or Injured Student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en a student is sick or injured, NO medication (aspirin, cough syrup, etc.) may be administered. All students who are sick or injured must be sent to the nurse or to the grade supervisors’ office accompanied by another student with a pass or with an available adult. This includes students injured during lunchtime.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nurse or grade supervisor will arrange to notify the student's parent, teacher, and main office and determine if it is necessary for the child to be sent home. If the child is well enough to remain in school the nurse/grade supervisor will give the child a note describing the observation and/or first aid administered.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f a child comes to school with medication to be taken during the school day, it must be accompanied by a note from home from the parent or guardian and to have a 504 on file. The student must take the medication himself/herself.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der no circumstances can a student be sent home during the school day unless called for by a responsible adult (name must appear on the emergency card). This includes lunch hour. Do not release students without notification/approval from the main office.</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Infection Control, Policies and Procedures</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hile HIV and/or STD’s is transmitted only through direct contact with infected blood, semen, or vaginal secretions, the following guidelines for universal infection control and hygienic practices should be followed to prevent the possible transmission of any infectious disease.  Our custodial staff has been trained to follow up on any incident involving blood.  In the event that you must act the following guidelines must be follow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r>
              <a:rPr b="1" lang="en-US" sz="1400" spc="-1" strike="noStrike">
                <a:solidFill>
                  <a:srgbClr val="000000"/>
                </a:solidFill>
                <a:latin typeface="Comic Sans MS"/>
              </a:rPr>
              <a:t>	</a:t>
            </a:r>
            <a:r>
              <a:rPr b="1" lang="en-US" sz="1400" spc="-1" strike="noStrike">
                <a:solidFill>
                  <a:srgbClr val="000000"/>
                </a:solidFill>
                <a:latin typeface="Comic Sans MS"/>
              </a:rPr>
              <a:t>all staff should use disposable gloves and should employ good hand washing practices after coming in contact with any blood or bodily wastes (e.g. Bloody nose). Gloves must be readily available, and first aid is not to be delay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r>
              <a:rPr b="1" lang="en-US" sz="1400" spc="-1" strike="noStrike">
                <a:solidFill>
                  <a:srgbClr val="000000"/>
                </a:solidFill>
                <a:latin typeface="Comic Sans MS"/>
              </a:rPr>
              <a:t>	</a:t>
            </a:r>
            <a:r>
              <a:rPr b="1" lang="en-US" sz="1400" spc="-1" strike="noStrike">
                <a:solidFill>
                  <a:srgbClr val="000000"/>
                </a:solidFill>
                <a:latin typeface="Comic Sans MS"/>
              </a:rPr>
              <a:t>all staff should handle all material or equipment that may have been exposed to blood or bodily waste in a precautionary manner. This material or equipment should be disinfected and wiped clean as soon as possible with soap and water, and the general area should also be disinfected using bleach or other disinfectant. After the cleaning process is complete, discard debris and gloves in a plastic bag and tie securely for disposal. Remember, all debris must be discarded before removing gloves. Wash hands thoroughly. A new pair of gloves should be used with each episode. As required by the New York City Department of Health, strict environmental hygiene must be observed. Everyone involved with children is expected to participate in the infection control policies and proced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Court Orders and Orders of Protectio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s a result of domestic disputes, you may have a child in your class who under no circumstances should be released or visited by one or both of the natural parents. If you are unsure, check with the General Office. In most cases, they are kept on file. Such court papers usually have an expiration d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oper Black"/>
              </a:rPr>
              <a:t>Student Lunch</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achers are to escort students directly to the cafeteria and they are to sit down at their assigned tables. Students will have 25 minutes for lunch and then have 25 minutes to recreate. If the teacher wants to tutor students they may pick them up and take them to the classroom, however the teacher must give them time to eat in the lunchroom.  No food will be allowed to be taken out of the lunchroom.  Doing so creates a health hazard in our building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 teachers must complete the Lunch Roster Form before taking the students to lunch.  Teachers will take attendance on the Lunch Roster Form and give it to the school aide. Before the teacher leaves the School Aide-In Charge must be on duty. Classes may not be left unattended. Teachers are to pick-up their classes from the designated lunch tables at the end of the lunch period. Teachers are expected to be punctual. Lunch periods are scheduled as follow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Lunch Schedule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1</a:t>
            </a:r>
            <a:r>
              <a:rPr b="0" lang="en-US" sz="1400" spc="-1" strike="noStrike">
                <a:solidFill>
                  <a:srgbClr val="000000"/>
                </a:solidFill>
                <a:latin typeface="Comic Sans MS"/>
              </a:rPr>
              <a:t>	</a:t>
            </a:r>
            <a:r>
              <a:rPr b="0" lang="en-US" sz="1400" spc="-1" strike="noStrike">
                <a:solidFill>
                  <a:srgbClr val="000000"/>
                </a:solidFill>
                <a:latin typeface="Comic Sans MS"/>
              </a:rPr>
              <a:t>Grade 2 &amp; 5</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4   11:15 -  12:05</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2</a:t>
            </a:r>
            <a:r>
              <a:rPr b="0" lang="en-US" sz="1400" spc="-1" strike="noStrike">
                <a:solidFill>
                  <a:srgbClr val="000000"/>
                </a:solidFill>
                <a:latin typeface="Comic Sans MS"/>
              </a:rPr>
              <a:t>	</a:t>
            </a:r>
            <a:r>
              <a:rPr b="0" lang="en-US" sz="1400" spc="-1" strike="noStrike">
                <a:solidFill>
                  <a:srgbClr val="000000"/>
                </a:solidFill>
                <a:latin typeface="Comic Sans MS"/>
              </a:rPr>
              <a:t>Grades 1 &amp; 3</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5   12:05 - 12:50</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3</a:t>
            </a:r>
            <a:r>
              <a:rPr b="0" lang="en-US" sz="1400" spc="-1" strike="noStrike">
                <a:solidFill>
                  <a:srgbClr val="000000"/>
                </a:solidFill>
                <a:latin typeface="Comic Sans MS"/>
              </a:rPr>
              <a:t>	</a:t>
            </a:r>
            <a:r>
              <a:rPr b="0" lang="en-US" sz="1400" spc="-1" strike="noStrike">
                <a:solidFill>
                  <a:srgbClr val="000000"/>
                </a:solidFill>
                <a:latin typeface="Comic Sans MS"/>
              </a:rPr>
              <a:t>Grades K &amp; 4</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5   12:55 -   1:4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lease note that there is a very short travel time in between each lunch period.   You must be in front of your class at the time your lunch period ends.  This way the incoming class may be seated as soon as they come dow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Record Card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ach child has a cumulative folder. It is the responsibility of the teacher to keep cumulative records updated and secured.  In September, and as new students enter our school check to see that you have a folder for each child on your register and that the folders contain all the necessary forms. If any records are missing, notify the Pupil Accounting Secretary in writing.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iodically check for changes in address, telephone number, etc. Alert the Pupil Accounting Secretary once the change has been verified. Update other school records. Make changes on necessary records: roll book, record cards, emergency cards, etc.</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You should not change a student's name on the record because a parent says so.  All changes of this nature are to come officially from the Pupil Accounting Secretary.  Remember that parent's have a right to review their child's record. If you receive a request from a parent to see his or her child's record, direct the parent to your grade supervi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Anecdotal Record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t is imperative that you maintain an anecdotal record for each child in your class! Entries should be made a minimum of once a week. Develop a template and include the following information: Name, DOB, OSIS #, Parent's Name, and telephone numbers. Underneath the biographical information you should log a listing of positive or negative information and any noteworthy activities. Please remember to list both good and bad deed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necdotal records will be reviewed periodically by supervising staff. They will be used as evidence to collaborate ongoing behavioral activity. They are necessary documentation required for meetings, guidance conferences, academic interventions, least restrictive environment considerations and promotional evidence. Entries in the anecdotal record should be short and to the point. They should not reflect your personal opinion or suggestions as to why the event occurred. They must be descriptive and as objective as possible. No judgments on your beha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Time Schedules</a:t>
            </a: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year our school hours will begin at 8:20 am and conclude at 2:40 pm on Mondays and Fridays. Our Extended Day sessions are scheduled from 2:40 pm to 3:30 pm on Tuesdays, Wednesdays, and Thursday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 385 is organized around a 7- period day. Each period is designed to provide you with a 45 minute time-frame which will help you plan your instructional activiti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ep in mind that PS 385 follows blocks of time for literacy and mathematics development.  These blocks of time range from 90 minutes to two hours, depending on nee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ease adhere to the schedule as closely as possible, since the Specialists’ program is designed around each time peri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chool Suppl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teacher's start-up kit will be supplied to each teacher in September. If additional supplies are needed a list of available supplies will be provided along with the kit.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ested supplies will be distributed on the third Thursday of each month. Please see to your grade supervisor for approvals.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teacher should use their teacher's choice money to order your own copy paper by the carton for your personal classroom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Program Card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Your program card should reflect the Balanced Literacy and Balanced Numeracy model.  It should also contain two Science periods and three Social Studies periods per week.  Post a copy of your complete program on the classroom door. In addition, whenever your class is not in their regular classroom a sign must be affixed to the front door indicating their location. Please see your grade supervisor as to how to complete your program c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Pupil Line-up and Dismissa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rival/Line-up</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uring good weather all students will line up in the school yard. As the weather changes students will line-up as follows: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Kindergarten will line up in the cafeteria.  First , Second and Third grades will line-up in the Gym, fourth and fifth grades will meet in the auditorium.  All teachers will come to their designated areas, greet the students and escort them to the classroom promptly at 8:20 am. Pre-Kindergarten children will be “dropped in” by their parents. All cluster and out of classroom teachers will be assigned to assist with line-up and dismissal procedures. It is the responsibility of the teacher to be with their class by 8:20 am.</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Dismissal/Line-U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he conclusion of your lesson students should be in their assigned seats waiting for your command to begin dismissal. Students should be directed to the clothing closets by groups to avoid overcrowded situations. Once all students are re-seated, take attendance and give last minute directions and reminders. Have the class line up in the room at the exit door. Then have the class go into the hallway in a double line. Assign monitors in the front and back to hold doors, etc. At 2:35 pm lead the class to the stairway. Stop periodically to make sure all stragglers catch up. Go outside to the line-up areas. Say good afternoon and dismis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achers are expected to escort their students as a group, in a safe and orderly manner from the classroom to the line up area. Teachers are then asked to return to the building with the remaining students via the gym entrance.  Drop of the late-pickups to their assigned areas and lea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Inclement Weather Procedur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uring inclement weather the same procedures outlined above will be followed. On excessively rainy or snowy days we will use indoor dismissal procedures.  All classes will report to their morning line-up assignments.   CAUTION: Students are never to be released by themselves. The teacher must always insure that the child has been released to the proper parent, guardian, older sibling or caretaker. You must get permission from the parent in writing if the student is allowed to be sent home unescorted. Further instructions will be outlined for late pick ups during inclement weather.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is the responsibility of the teacher to encourage parents to pick up their students on time. On Tuesdays, Wednesdays and Thursdays, all teachers are to immediately return to their class with the students identified for academic intervention during extended day. You will then dismiss these students at 3:30 pm in the schoolyard or escort them to their after-school programs (if fund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Detaining Children After Dismiss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intend to detain children after school, you must obtain prior approval from your supervisor. A letter must be sent home in advance of the detention day. A tear-off returned by the child and signed by the parent must be filled to ensure parent notification. </a:t>
            </a:r>
            <a:r>
              <a:rPr b="1" lang="en-US" sz="2800" spc="-1" strike="noStrike" u="sng">
                <a:solidFill>
                  <a:srgbClr val="000000"/>
                </a:solidFill>
                <a:uFillTx/>
                <a:latin typeface="Comic Sans MS"/>
              </a:rPr>
              <a:t>No one may detain a child on Faculty Conference Mon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Assembly Program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pecial assemblies will be scheduled and announced through school circulars, grade conferences, at the monthly planner board, and via e-mail. Attendance award forms for monthly awards assembly programs will be placed in your mailbox at least one week before they are to be submitted to the Grade Supervi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3" name="PlaceHolder 2"/>
          <p:cNvSpPr>
            <a:spLocks noGrp="1"/>
          </p:cNvSpPr>
          <p:nvPr>
            <p:ph/>
          </p:nvPr>
        </p:nvSpPr>
        <p:spPr>
          <a:xfrm>
            <a:off x="914040" y="1600200"/>
            <a:ext cx="7924680" cy="49528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oper Black"/>
              </a:rPr>
              <a:t>Field Trips</a:t>
            </a:r>
            <a:r>
              <a:rPr b="0" lang="en-US" sz="1800" spc="-1" strike="noStrike">
                <a:solidFill>
                  <a:srgbClr val="000000"/>
                </a:solidFill>
                <a:latin typeface="Cooper Black"/>
              </a:rPr>
              <a:t> </a:t>
            </a:r>
            <a:endParaRPr b="0" lang="en-US" sz="18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ield trips can help teachers to broaden and enrich the curriculum. Each teacher is required to plan a minimum of four (4) field trips per year. A well planned trip can leave a lasting impression on a young mind while deepening his understanding and appreciation of the subject. Introductory and follow-up activities related to the trip are to appear in your lesson plans. All trips must receive the approval of the grade supervisor. The new trip forms can be obtained from our trip coordina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Field Trip Request Form must be completed for </a:t>
            </a:r>
            <a:r>
              <a:rPr b="0" lang="en-US" sz="1400" spc="-1" strike="noStrike" u="sng">
                <a:solidFill>
                  <a:srgbClr val="000000"/>
                </a:solidFill>
                <a:uFillTx/>
                <a:latin typeface="Comic Sans MS"/>
              </a:rPr>
              <a:t>ALL</a:t>
            </a:r>
            <a:r>
              <a:rPr b="0" lang="en-US" sz="1400" spc="-1" strike="noStrike">
                <a:solidFill>
                  <a:srgbClr val="000000"/>
                </a:solidFill>
                <a:latin typeface="Comic Sans MS"/>
              </a:rPr>
              <a:t> trips and submitted at least 4 weeks before the trip date (Exceptions will only be made at the discretion of the principal).</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igned consent slip must be on record for each child going on the trip. Consent slip must be collected at least 3 school days prior to the scheduled trip and submitted to the Grade supervisor. Please note: Neighborhood walking trips must also be planned for and approved beforehand by a supervisor. The teacher in charge of the trip will retain all consent slips until the end of the school year, after which, circumstances permitting, the slips will be discarded.</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teacher must inform the dietician of any trips the class has scheduled. The day before the trip the teacher is to inform the dietician as to how many students will be needing lunch on the day of the trip.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lease note that deposits and/or advance payments for class trips arranged by the teacher REMAIN exclusively the responsibility of the teacher if the trip does not take plac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inety (95) percent of your class must participate in the field trip.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t is the responsibility of the teacher for placing students that are not going on a trip. The teacher must inform the parent that their child is not going. The child must attend school even if he or she is not going on the trip. Children left behind are to be placed in neighboring classes on the grade with the supervisor's approval. The teacher must provide work for students left behin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S attendance must be submitted to the main office before departure. If you cancel a trip, you are to immediately notify your grade supervisor before the school day starts, also notify the bus company.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the upper grades, no field trips will be allowed on the day of standardized testing and two weeks prior to testing.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urage parent involvement. At minimum two parents must accompany each class. </a:t>
            </a:r>
            <a:r>
              <a:rPr b="0" lang="en-US" sz="1400" spc="-1" strike="noStrike" u="sng">
                <a:solidFill>
                  <a:srgbClr val="000000"/>
                </a:solidFill>
                <a:uFillTx/>
                <a:latin typeface="Comic Sans MS"/>
              </a:rPr>
              <a:t>Absolutely no siblings are permitted on a school trip.</a:t>
            </a:r>
            <a:r>
              <a:rPr b="0" lang="en-US" sz="1400" spc="-1" strike="noStrike">
                <a:solidFill>
                  <a:srgbClr val="000000"/>
                </a:solidFill>
                <a:latin typeface="Comic Sans MS"/>
              </a:rPr>
              <a:t> Only adults over the age of 18 may serve as chaperons. In some cases there must be an adult for every 10 childre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instances where a child is lost or hurt on the trip the principal is to be called immediately. At the time, the name of the student, class, nature of the incident is to be given. If an incident occurs and you cannot reach the supervisors in the building contact the school secretaries at (718) 292-5070.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Extended Day</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teachers, paraprofessionals, guidance counselors and out of classroom teachers are required to tutor selected students while school is in session.  On Tuesdays, Wednesdays and Thursdays, all teachers must report to their tutoring sites by 2:45 pm and work with the students there until 3:30 pm. These are official time hours. A list of students, procedures and instructional materials will be identified and distributed. A school circular will inform you as to the procedures and your assignment</a:t>
            </a:r>
            <a:r>
              <a:rPr b="1" i="1" lang="en-US" sz="2400" spc="-1" strike="noStrike" u="sng">
                <a:solidFill>
                  <a:srgbClr val="000000"/>
                </a:solidFill>
                <a:uFillTx/>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eparation Periods</a:t>
            </a: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s are entitled to five (5) preparation periods per week. Each preparation period is 45-minutes lo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eparation period is a dedicated amount of time for you to plan and prepare your lessons for your class.  It is also a time for you to meet with your grade supervisor in order to discuss any pertinent issues relating to you and your classroom.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may also utilize this time to call parents and inform them of their child’s progress.  Preparation periods are covered by a cluster teach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Student Movement, Hall Passes, Bathroom Procedur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 child, except in an emergency, should be out of the room before 10:25 am to go to the bathroom. Grades K, 1 and 2 may use the bathrooms in their rooms (if they have one).</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rades 3, 4 and 5 must have students sign an out-of-the room book. This book must include date, name and time. It is evident that many students need to use the bathroom after their lunch period at which time the bathrooms will be monitored.  Students without a pass will be returned to the classroom.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t is the teacher’s responsibility to monitor the length of time the student is out of the classroom. If a child stays out too long, the teacher must use the levels of consequences established for the classroo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6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rades K, 1 and 2 may send students in pairs when a child has an emergency. Grades 3, 4 and 5 should only send one child at a time with an appropriate pass. At any time no child should be in the hallway without a pas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f you are a pull out teacher or Guidance Counselor, you are to pick-up and drop-off children. DO NOT direct the students to return back by themselves. Children are NEVER to be sent upstairs alone to meet a teacher before, after or during lunch hour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our efforts to maintain an orderly environment, please insist that your students walk respectfully, silently and in a double line as they walk through the building. It is the responsibility of the teacher to teach the students appropriate ways of speaking to each other, and the adults they will meet.  They are not to disturb other classes while in-session and they are not to disturb student work on the bulletin boards or hallway displays. Most importantly, Children Are Not Be Put out In The Hallway As A Punishment.</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ofessionalism</a:t>
            </a:r>
            <a:endParaRPr b="0" lang="en-US" sz="4200" spc="-1" strike="noStrike">
              <a:solidFill>
                <a:srgbClr val="330033"/>
              </a:solidFill>
              <a:latin typeface="Times New Roman"/>
            </a:endParaRPr>
          </a:p>
        </p:txBody>
      </p:sp>
      <p:sp>
        <p:nvSpPr>
          <p:cNvPr id="2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 our efforts to build a community of learners, a place where everyone will develop a "love of learning", we must always keep in mind that we are the role models for developing this community of learners. Every action take we take and every word that we speak reflects our understanding of our mission. With this in mind, be aware that:</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t>
            </a:r>
            <a:r>
              <a:rPr b="0" lang="en-US" sz="1600" spc="-1" strike="noStrike">
                <a:solidFill>
                  <a:srgbClr val="000000"/>
                </a:solidFill>
                <a:latin typeface="Comic Sans MS"/>
              </a:rPr>
              <a:t>	</a:t>
            </a:r>
            <a:r>
              <a:rPr b="0" lang="en-US" sz="1600" spc="-1" strike="noStrike">
                <a:solidFill>
                  <a:srgbClr val="000000"/>
                </a:solidFill>
                <a:latin typeface="Comic Sans MS"/>
              </a:rPr>
              <a:t>if we feel we are successful, then we must dress for succes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 </a:t>
            </a:r>
            <a:r>
              <a:rPr b="0" lang="en-US" sz="1600" spc="-1" strike="noStrike">
                <a:solidFill>
                  <a:srgbClr val="000000"/>
                </a:solidFill>
                <a:latin typeface="Comic Sans MS"/>
              </a:rPr>
              <a:t>	</a:t>
            </a:r>
            <a:r>
              <a:rPr b="0" lang="en-US" sz="1600" spc="-1" strike="noStrike">
                <a:solidFill>
                  <a:srgbClr val="000000"/>
                </a:solidFill>
                <a:latin typeface="Comic Sans MS"/>
              </a:rPr>
              <a:t>if we feel we are successful teachers, then our rooms must reflect an </a:t>
            </a:r>
            <a:r>
              <a:rPr b="0" lang="en-US" sz="1600" spc="-1" strike="noStrike">
                <a:solidFill>
                  <a:srgbClr val="000000"/>
                </a:solidFill>
                <a:latin typeface="Comic Sans MS"/>
              </a:rPr>
              <a:t>	</a:t>
            </a:r>
            <a:r>
              <a:rPr b="0" lang="en-US" sz="1600" spc="-1" strike="noStrike">
                <a:solidFill>
                  <a:srgbClr val="000000"/>
                </a:solidFill>
                <a:latin typeface="Comic Sans MS"/>
              </a:rPr>
              <a:t>effective, organized and attractive learning environment;</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 </a:t>
            </a:r>
            <a:r>
              <a:rPr b="0" lang="en-US" sz="1600" spc="-1" strike="noStrike">
                <a:solidFill>
                  <a:srgbClr val="000000"/>
                </a:solidFill>
                <a:latin typeface="Comic Sans MS"/>
              </a:rPr>
              <a:t>	</a:t>
            </a:r>
            <a:r>
              <a:rPr b="0" lang="en-US" sz="1600" spc="-1" strike="noStrike">
                <a:solidFill>
                  <a:srgbClr val="000000"/>
                </a:solidFill>
                <a:latin typeface="Comic Sans MS"/>
              </a:rPr>
              <a:t>if we believe in fostering a "love of learning", then we must also see </a:t>
            </a:r>
            <a:r>
              <a:rPr b="0" lang="en-US" sz="1600" spc="-1" strike="noStrike">
                <a:solidFill>
                  <a:srgbClr val="000000"/>
                </a:solidFill>
                <a:latin typeface="Comic Sans MS"/>
              </a:rPr>
              <a:t>	</a:t>
            </a:r>
            <a:r>
              <a:rPr b="0" lang="en-US" sz="1600" spc="-1" strike="noStrike">
                <a:solidFill>
                  <a:srgbClr val="000000"/>
                </a:solidFill>
                <a:latin typeface="Comic Sans MS"/>
              </a:rPr>
              <a:t>ourselves as learner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 </a:t>
            </a:r>
            <a:r>
              <a:rPr b="0" lang="en-US" sz="1600" spc="-1" strike="noStrike">
                <a:solidFill>
                  <a:srgbClr val="000000"/>
                </a:solidFill>
                <a:latin typeface="Comic Sans MS"/>
              </a:rPr>
              <a:t>	</a:t>
            </a:r>
            <a:r>
              <a:rPr b="0" lang="en-US" sz="1600" spc="-1" strike="noStrike">
                <a:solidFill>
                  <a:srgbClr val="000000"/>
                </a:solidFill>
                <a:latin typeface="Comic Sans MS"/>
              </a:rPr>
              <a:t>if we want to have a great lesson every day, then we must plan for </a:t>
            </a:r>
            <a:r>
              <a:rPr b="0" lang="en-US" sz="1600" spc="-1" strike="noStrike">
                <a:solidFill>
                  <a:srgbClr val="000000"/>
                </a:solidFill>
                <a:latin typeface="Comic Sans MS"/>
              </a:rPr>
              <a:t>	</a:t>
            </a:r>
            <a:r>
              <a:rPr b="0" lang="en-US" sz="1600" spc="-1" strike="noStrike">
                <a:solidFill>
                  <a:srgbClr val="000000"/>
                </a:solidFill>
                <a:latin typeface="Comic Sans MS"/>
              </a:rPr>
              <a:t>great lessons every day;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a:t>
            </a:r>
            <a:r>
              <a:rPr b="0" lang="en-US" sz="1600" spc="-1" strike="noStrike">
                <a:solidFill>
                  <a:srgbClr val="000000"/>
                </a:solidFill>
                <a:latin typeface="Comic Sans MS"/>
              </a:rPr>
              <a:t>	</a:t>
            </a:r>
            <a:r>
              <a:rPr b="0" lang="en-US" sz="1600" spc="-1" strike="noStrike">
                <a:solidFill>
                  <a:srgbClr val="000000"/>
                </a:solidFill>
                <a:latin typeface="Comic Sans MS"/>
              </a:rPr>
              <a:t>if we command respect from the students and parents, then we must </a:t>
            </a:r>
            <a:r>
              <a:rPr b="0" lang="en-US" sz="1600" spc="-1" strike="noStrike">
                <a:solidFill>
                  <a:srgbClr val="000000"/>
                </a:solidFill>
                <a:latin typeface="Comic Sans MS"/>
              </a:rPr>
              <a:t>	</a:t>
            </a:r>
            <a:r>
              <a:rPr b="0" lang="en-US" sz="1600" spc="-1" strike="noStrike">
                <a:solidFill>
                  <a:srgbClr val="000000"/>
                </a:solidFill>
                <a:latin typeface="Comic Sans MS"/>
              </a:rPr>
              <a:t>give respect to the students and their parent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a:t>
            </a:r>
            <a:r>
              <a:rPr b="0" lang="en-US" sz="1600" spc="-1" strike="noStrike">
                <a:solidFill>
                  <a:srgbClr val="000000"/>
                </a:solidFill>
                <a:latin typeface="Comic Sans MS"/>
              </a:rPr>
              <a:t>	</a:t>
            </a:r>
            <a:r>
              <a:rPr b="0" lang="en-US" sz="1600" spc="-1" strike="noStrike">
                <a:solidFill>
                  <a:srgbClr val="000000"/>
                </a:solidFill>
                <a:latin typeface="Comic Sans MS"/>
              </a:rPr>
              <a:t>if we maintain our expectations high, then our students will rise to </a:t>
            </a:r>
            <a:r>
              <a:rPr b="0" lang="en-US" sz="1600" spc="-1" strike="noStrike">
                <a:solidFill>
                  <a:srgbClr val="000000"/>
                </a:solidFill>
                <a:latin typeface="Comic Sans MS"/>
              </a:rPr>
              <a:t>	</a:t>
            </a:r>
            <a:r>
              <a:rPr b="0" lang="en-US" sz="1600" spc="-1" strike="noStrike">
                <a:solidFill>
                  <a:srgbClr val="000000"/>
                </a:solidFill>
                <a:latin typeface="Comic Sans MS"/>
              </a:rPr>
              <a:t>meet them;</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7)</a:t>
            </a:r>
            <a:r>
              <a:rPr b="0" lang="en-US" sz="1600" spc="-1" strike="noStrike">
                <a:solidFill>
                  <a:srgbClr val="000000"/>
                </a:solidFill>
                <a:latin typeface="Comic Sans MS"/>
              </a:rPr>
              <a:t>	</a:t>
            </a:r>
            <a:r>
              <a:rPr b="0" lang="en-US" sz="1600" spc="-1" strike="noStrike">
                <a:solidFill>
                  <a:srgbClr val="000000"/>
                </a:solidFill>
                <a:latin typeface="Comic Sans MS"/>
              </a:rPr>
              <a:t>if we expect our parents to work as partners, then encourage them to </a:t>
            </a:r>
            <a:r>
              <a:rPr b="0" lang="en-US" sz="1600" spc="-1" strike="noStrike">
                <a:solidFill>
                  <a:srgbClr val="000000"/>
                </a:solidFill>
                <a:latin typeface="Comic Sans MS"/>
              </a:rPr>
              <a:t>	</a:t>
            </a:r>
            <a:r>
              <a:rPr b="0" lang="en-US" sz="1600" spc="-1" strike="noStrike">
                <a:solidFill>
                  <a:srgbClr val="000000"/>
                </a:solidFill>
                <a:latin typeface="Comic Sans MS"/>
              </a:rPr>
              <a:t>participate in classroom activiti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lease remember that courtesy is contagious and will help to develop a caring community of learners for our students and our par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What happens If I Miss a Prep Period?</a:t>
            </a:r>
            <a:endParaRPr b="0" lang="en-US" sz="38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ry effort will be made to ensure you do not miss a preparation period. However if you miss a preparation period, please notify the payroll secretary in writing. Your missed preparation period will be made up during the week or paid at the rate established by UFT contractual guidelin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keup preparation periods will not be granted under the following circumstances: (1) when the teacher has scheduled a trip during their assigned preparation period; (2) when a make-up preparation period is refused by the teach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ease be aware that the unavailability of a teacher to cover a class constitutes an emergency. The principal has the responsibility to assign a teacher in the school to cover the class without regard to the preparation schedule. This may impact on your preparation schedu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Staff Arrival and Attendance</a:t>
            </a:r>
            <a:endParaRPr b="0" lang="en-US" sz="38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nctuality and attendance is a high priority for all members of our learning community. Our school hours are from 8:20 am to 2:40 pm Mondays and Fridays and 8:30 am to 3:30 pm on Tuesdays, Wednesdays, and Thursday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ur faculty conferences, once a month will be held on the first Monday of every month.  On faculty conference days you will remain until 3:20 pm.  It is mandatory for all staff to atte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ou are expected to arrive at school prior to your designated time so that you may be with your class by 8:20 am unless you have been specifically notified to report to school at a different time. Please make sure to make arrangements and to be available on the designated day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these dates and times have been approved and are contractually agreed upon.  Please do not request any special accommodations since they cannot be granted.</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Time Card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pervisors, Teachers, Educational Assistants, School Aides, and all other staff members will indicate they are present for the day by moving their time card from the OUT column to the IN column before reporting to their assignmen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f you arrive after your scheduled time, the payroll secretary will have your time card. You must then punch in to document your time of arrival.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pattern of excessive absences or lateness can lead to disciplinary action including a conference with the principal, a letter for your file, an unsatisfactory rating at the end of the year and/or termination</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staff member is responsible for moving their own car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No one is allowed to move a time card, as a favor, for any other colleague</a:t>
            </a:r>
            <a:r>
              <a:rPr b="0" i="1" lang="en-US" sz="1800" spc="-1" strike="noStrike">
                <a:solidFill>
                  <a:srgbClr val="000000"/>
                </a:solidFill>
                <a:latin typeface="Comic Sans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4T00:07:06Z</dcterms:created>
  <dc:creator>Student</dc:creator>
  <dc:description/>
  <dc:language>en-US</dc:language>
  <cp:lastModifiedBy>Student</cp:lastModifiedBy>
  <dcterms:modified xsi:type="dcterms:W3CDTF">2009-10-06T12:18:11Z</dcterms:modified>
  <cp:revision>13</cp:revision>
  <dc:subject/>
  <dc:title>PS 385  The Performance School School Policy Manual</dc:title>
</cp:coreProperties>
</file>