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DB0C0-ECF9-47C1-A55A-863C10ABB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A8C4F-C6FD-43A6-81E0-564836E91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C314D-5783-422E-8EF9-9057527DC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BACDB-0F1C-4523-8966-6AD01808F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EFF86-9917-4AD4-BB28-5FFD64BF7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D0E8D-0E2E-4501-AE0C-5A3BD689A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2B5EF-F8FD-4917-B322-BAA17280B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30C83-4C3B-4E0D-B519-CED7CFEA9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82959-0B9E-47DC-8EE5-E829390D0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5094-EC92-45D0-995E-C025FB170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6898-2339-4646-91FA-F3E87C671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2DCE-38C3-4084-8368-67866AA14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5E31-740E-4AE6-9FC9-41ED206F7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B559E-2C0E-4D4A-8096-E91AEE01B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2E63-0135-4F51-86DF-8DE0A9A67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EF47A-2B9D-4768-BA22-1FF2A97CD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3F088-11B1-47E7-BFE2-DCE41BE13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417874-F863-4B0E-A487-052F59AED0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35670-9DD8-4FFA-8C58-CC1C4FEBA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3378C-F47B-4F8B-B32E-4BAB22B9B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BD6AF-5353-4B6B-8CE4-2794497EA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5B1F8-59C6-48F3-95C1-F6EA382E2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29EB-ECB5-48CF-ADA6-6E705EF4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4DB61-FB5A-414C-AE84-163C1180A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9C560-CD19-4910-9409-2DD3057E4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58B0D-C3F5-4886-B4B0-37C5D2291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E75E0-417C-4A4D-BF72-1DC39C184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5B4D1-7429-4D07-AA67-081A0AA916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AB18C3-D5BE-4D92-8E17-E41339377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01E829-3310-40A0-A0DB-6997F608D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46FD-306F-4474-AE67-629CFE0C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6C19A-FEFD-4BC2-9FB0-B545656A2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929C-6438-4170-BDB9-A4BB7047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445D-6DE0-47CF-B870-E702D1A6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A08F-9AC4-4B99-9665-BA10CBDA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DDA9-B2C7-4D00-A098-849E4EDDC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F54B-9856-48EE-ADED-BC93383CD7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41B3-F0B5-4A75-9AA1-78D2C8186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A98F-AB22-489D-BD23-145A4AD1EF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he day before and after a holiday will be carefully scrutinized. No permission will be given for extended holidays, the day prior to or following a holiday. </a:t>
            </a:r>
            <a:r>
              <a:rPr b="1" lang="en-US" sz="2400" spc="-1" strike="noStrike">
                <a:solidFill>
                  <a:srgbClr val="000000"/>
                </a:solidFill>
                <a:latin typeface="Arial"/>
              </a:rPr>
              <a:t>All teachers are required to report to work immediately before or following any holiday.</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uating circumstances must be approved by the principal!)</a:t>
            </a:r>
            <a:endParaRPr b="0" lang="en-US" sz="24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Rectangle 8"/>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Picture 10" descr=""/>
          <p:cNvPicPr/>
          <p:nvPr/>
        </p:nvPicPr>
        <p:blipFill>
          <a:blip r:embed="rId1"/>
          <a:srcRect l="0" t="0" r="-2638" b="-11555"/>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NYCDOE Schools</cp:lastModifiedBy>
  <dcterms:modified xsi:type="dcterms:W3CDTF">2010-01-20T03:18:06Z</dcterms:modified>
  <cp:revision>15</cp:revision>
  <dc:subject/>
  <dc:title>PS 385  The Performance School School Policy Manual</dc:title>
</cp:coreProperties>
</file>