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0F0F5-DDB3-4A0D-A2CF-0CC6845C2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E9BE5-056F-47FD-9DA2-789F837BF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8BA31-CB8E-45DF-871D-3F0739D05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BA81E-2ED5-4190-BB87-5647C57DF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5AC49-5962-4AE4-956B-9627FB7AF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8FD73-E1BA-48F2-A90A-7A9844A95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C64BC-8880-4117-9072-C2E7B8BA1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FDD69-3CC3-433F-8F91-531D254BA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7A8C4-7E12-47B5-AB57-81A13B465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5C0A4-7CB4-4CF6-BA7E-4ED01B928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4A615-F07A-4F37-920E-8A93871C8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2A473-0E6A-4FA9-B4F1-766113736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1CDEA-1766-48D1-96C2-884F10763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591CB-B0B7-4207-86DA-1D22CB764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7D68B-14E0-4693-99C4-EB2021188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C8E2C-7B6A-4C59-8EA2-26D823DF8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DD12C-084A-4421-BA36-9BCC08FF2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EA3063-00F6-4182-8508-EDE2ADFC58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55897C-9DC5-42BB-82D1-96E691102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A101F2-5174-45E0-9EC8-06D82D67B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74829E-79C2-491D-A458-81427AE1F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C1FC8-7A82-4DC9-8C20-ACDFCCA22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7A750-7D66-4672-A6AB-B15F19C55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86A64-E6B1-4F9C-B5E8-10B8C98E7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113AA-B5D1-4B09-A851-F8EA5BE82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4FB943-868B-42AD-9986-AF8012409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0752A-983A-4076-A23A-3634EC18D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82D93-F332-4118-BDA2-6486AB77C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3F5BBD-86D1-47C8-AB04-2533E82A26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8BF442-9991-4411-A997-D994ADD3E3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48DD-9C8B-4D99-8231-498F72D23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4822-42B6-4976-AE3D-7E6A86FF6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00753-C014-46E6-B956-CA1275BCF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05AD-4BBB-4228-A569-D8F3D1EB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DA9E9-0487-470A-A96D-46CB41DFE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C9C0-FFDD-40C7-96DA-BACEDAF49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B523-E6A9-46D0-81F1-7732353962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2B81-368B-4D1F-ACFD-75CD6CC0A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BDAF-A0D1-4C3F-A0A4-647D7D495B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s the day before and after a holiday will be carefully scrutinized. No permission will be given for extended holidays, the day prior to or following a holiday. </a:t>
            </a:r>
            <a:r>
              <a:rPr b="1" lang="en-US" sz="2400" spc="-1" strike="noStrike">
                <a:solidFill>
                  <a:srgbClr val="000000"/>
                </a:solidFill>
                <a:latin typeface="Arial"/>
              </a:rPr>
              <a:t>All teachers are required to report to work immediately before or following any holiday.</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uating circumstances must be approved by the principal!)</a:t>
            </a:r>
            <a:endParaRPr b="0" lang="en-US" sz="24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Rectangle 8"/>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Picture 10" descr=""/>
          <p:cNvPicPr/>
          <p:nvPr/>
        </p:nvPicPr>
        <p:blipFill>
          <a:blip r:embed="rId1"/>
          <a:srcRect l="0" t="0" r="-2638" b="-11555"/>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NYCDOE Schools</cp:lastModifiedBy>
  <dcterms:modified xsi:type="dcterms:W3CDTF">2010-01-20T03:18:06Z</dcterms:modified>
  <cp:revision>15</cp:revision>
  <dc:subject/>
  <dc:title>PS 385  The Performance School School Policy Manual</dc:title>
</cp:coreProperties>
</file>