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47C4D-8D39-4A2D-8E76-D36415556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9E424-4ED4-4CDB-B720-A98A3F182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F21C8-D822-4276-9A24-29D7BABAC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ACA53-B4ED-4DB2-B331-668EA3CAB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FCF8C-E544-4E75-9A48-5A3552C2BA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CD2CA-78F2-4D49-9A29-752DE187E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C581B-6F08-4DAD-B651-C9EC986FB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0BB7E-251D-42B3-AAF5-CAE19167A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29368-AF5F-4E90-9452-294A3C3F3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1A935-6932-4660-ACDF-9A9FEB1AF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DDE1C-0483-433B-B831-5E77E236D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F4520-752B-4F31-88D7-B8A3B7CF7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94C79-F4E2-45BD-AA6A-0AF0D91C6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4516F-15BD-4093-9C48-B588930D7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DD898-1968-4988-B776-5DFAAC6D9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825AB-F01F-4C19-B25E-3EEC1DE50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78433-9D31-494E-AC1D-96F96CBE6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730636-1492-4C4C-838A-6A0E97E5F7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EF0AC-94CC-44DA-B619-E415BDB9AF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694CDF-345A-438A-A150-6C2FA5B398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7BD68-EF90-48AF-812A-F03904239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5567E2-1DD4-4C8D-88B5-06FB72FFB2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BC3EE-DA27-403F-9139-7D54AD9AD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93772-B726-4089-AAF6-505C2A025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8F774-9F16-4474-93DA-C5DFFB892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0AB0E-5C2D-4CB2-B6C0-98C89028DE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FAD84-BB23-4B77-80DF-8B6058001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456CB-621C-4999-BD32-0A02B9F1A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768C20-8621-41F8-ADCE-8F51E59B8D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C4B30A4-A5A2-4DEA-95C7-5BDC34A84B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4C51B-72FD-4493-9E20-806BC7BDA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FCD66-6FC4-4B52-A65A-577103718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394CA-56BD-4F34-A60B-4D2754BA1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338F9-5678-4553-9665-C4D2C7F00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0B51C-735C-48D3-99FD-F586414F1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851D-D891-44D2-A513-5878DF2B7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2742-C605-41BD-8A36-6432387902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2E43-4183-43BC-8690-1A81E7C68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DD81-AD35-42F8-831F-27761E6401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s the day before and after a holiday will be carefully scrutinized. No permission will be given for extended holidays, the day prior to or following a holiday. </a:t>
            </a:r>
            <a:r>
              <a:rPr b="1" lang="en-US" sz="2400" spc="-1" strike="noStrike">
                <a:solidFill>
                  <a:srgbClr val="000000"/>
                </a:solidFill>
                <a:latin typeface="Arial"/>
              </a:rPr>
              <a:t>All teachers are required to report to work immediately before or following any holiday.</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uating circumstances must be approved by the principal!)</a:t>
            </a:r>
            <a:endParaRPr b="0" lang="en-US" sz="24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Rectangle 8"/>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Picture 10" descr=""/>
          <p:cNvPicPr/>
          <p:nvPr/>
        </p:nvPicPr>
        <p:blipFill>
          <a:blip r:embed="rId1"/>
          <a:srcRect l="0" t="0" r="-2638" b="-11555"/>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NYCDOE Schools</cp:lastModifiedBy>
  <dcterms:modified xsi:type="dcterms:W3CDTF">2010-01-20T03:18:06Z</dcterms:modified>
  <cp:revision>15</cp:revision>
  <dc:subject/>
  <dc:title>PS 385  The Performance School School Policy Manual</dc:title>
</cp:coreProperties>
</file>